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.png" ContentType="image/png"/>
  <Override PartName="/ppt/media/image4.gif" ContentType="image/gif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8BC-AC21-4407-809C-7D5E778B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F7E-7166-49B4-827D-E9AB2EFE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E58-35CC-428D-B0DF-1580B4E3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0FE-5411-40AB-8F48-A327520A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9834-0999-416B-BA8D-86BC4604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1277-0ABD-4CB2-97D7-BDD8A24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9872-EF48-4473-921D-6850F526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4A0C-E9A4-4D98-8291-D813B9A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2B7A-53C5-4281-B1BA-EB854D1E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F28D-80C8-4EC3-834D-A8F5605B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0AEA-88F4-4DD1-99FC-C3BCB38D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CD6-9853-4BF7-BF84-E44BBCF2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13D4-2B79-49EC-ABC0-D771D5A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2A8E-9056-4CC3-A26B-426431CB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FA70-3A64-4773-82A5-97AEF4C0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FDD6-C800-4504-8D01-7EC56FE1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4AC4-BEB7-47CB-8363-FEE0CE8F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939-79A5-42EE-9272-F68BC90F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3DF-5DF6-4BBB-8684-93DF038F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4AC-185B-456B-BA3D-72380E20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480-3178-47DE-BC18-F98C5965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B14-8495-405E-B6D4-0DD4A18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CEB-09CD-4D00-9242-67B3077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EB1-6856-4E09-9C41-401319AB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23B1-67AC-4EFB-B60D-0090E32AE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4D39-FDFB-4929-ABF0-DBECD42585E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87280" y="0"/>
            <a:ext cx="6732720" cy="1341360"/>
          </a:xfrm>
          <a:prstGeom prst="bevel">
            <a:avLst>
              <a:gd name="adj" fmla="val 22838"/>
            </a:avLst>
          </a:prstGeom>
          <a:solidFill>
            <a:srgbClr val="33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تثنية المقصور والمنقوص والممدو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01080" y="6021360"/>
            <a:ext cx="1942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843280" y="1341360"/>
            <a:ext cx="3168720" cy="1800360"/>
          </a:xfrm>
          <a:prstGeom prst="bevel">
            <a:avLst>
              <a:gd name="adj" fmla="val 22838"/>
            </a:avLst>
          </a:prstGeom>
          <a:solidFill>
            <a:srgbClr val="66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3300"/>
                </a:solidFill>
                <a:latin typeface="Arial"/>
              </a:rPr>
              <a:t>نواتج الت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124640" y="3860640"/>
            <a:ext cx="11252160" cy="1556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يتـــعرف تثنية الأسماء المقصورة والمنقوصة والمم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يميِّز بين تثنية الأسماء المقصورة والمنقوصة والمم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يميِّز بين جمع الأسماء المقصورة والمنقوصة والمم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2340000" cy="1052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240120 h 1052640"/>
              <a:gd name="textAreaBottom" fmla="*/ 81252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95640" y="0"/>
            <a:ext cx="4032000" cy="914400"/>
          </a:xfrm>
          <a:custGeom>
            <a:avLst/>
            <a:gdLst>
              <a:gd name="textAreaLeft" fmla="*/ 920520 w 4032000"/>
              <a:gd name="textAreaRight" fmla="*/ 3111480 w 40320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قرأ ثم لاح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9640" y="0"/>
            <a:ext cx="3024360" cy="914400"/>
          </a:xfrm>
          <a:custGeom>
            <a:avLst/>
            <a:gdLst>
              <a:gd name="textAreaLeft" fmla="*/ 690480 w 3024360"/>
              <a:gd name="textAreaRight" fmla="*/ 2333880 w 3024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ثنية المنقو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484280"/>
            <a:ext cx="9144000" cy="13136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رعى مسئول </a:t>
            </a:r>
            <a:r>
              <a:rPr b="1" lang="hi-IN" sz="2000" spc="-1" strike="noStrike">
                <a:solidFill>
                  <a:srgbClr val="cc3300"/>
                </a:solidFill>
                <a:latin typeface="Arial"/>
              </a:rPr>
              <a:t>الناد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الثقافي أمسيةً شعريةً                    رعى مسئولا </a:t>
            </a:r>
            <a:r>
              <a:rPr b="1" lang="hi-IN" sz="2000" spc="-1" strike="noStrike">
                <a:solidFill>
                  <a:srgbClr val="cc3300"/>
                </a:solidFill>
                <a:latin typeface="Arial"/>
              </a:rPr>
              <a:t>النادي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الثقافيين أمسية شعرية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هذا </a:t>
            </a:r>
            <a:r>
              <a:rPr b="1" lang="hi-IN" sz="2000" spc="-1" strike="noStrike">
                <a:solidFill>
                  <a:srgbClr val="cc3300"/>
                </a:solidFill>
                <a:latin typeface="Arial"/>
              </a:rPr>
              <a:t>القاضي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عادلُ ، أمامه </a:t>
            </a:r>
            <a:r>
              <a:rPr b="1" lang="hi-IN" sz="2000" spc="-1" strike="noStrike">
                <a:solidFill>
                  <a:srgbClr val="cc3300"/>
                </a:solidFill>
                <a:latin typeface="Arial"/>
              </a:rPr>
              <a:t>محامٍ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قدير                         هذان </a:t>
            </a:r>
            <a:r>
              <a:rPr b="1" lang="hi-IN" sz="2000" spc="-1" strike="noStrike">
                <a:solidFill>
                  <a:srgbClr val="cc3300"/>
                </a:solidFill>
                <a:latin typeface="Arial"/>
              </a:rPr>
              <a:t>القاضي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العادلان أمامهما </a:t>
            </a:r>
            <a:r>
              <a:rPr b="1" lang="hi-IN" sz="2000" spc="-1" strike="noStrike">
                <a:solidFill>
                  <a:srgbClr val="cc3300"/>
                </a:solidFill>
                <a:latin typeface="Arial"/>
              </a:rPr>
              <a:t>محاميان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قدير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360" y="907920"/>
            <a:ext cx="648000" cy="576360"/>
          </a:xfrm>
          <a:custGeom>
            <a:avLst/>
            <a:gdLst>
              <a:gd name="textAreaLeft" fmla="*/ 147960 w 648000"/>
              <a:gd name="textAreaRight" fmla="*/ 500040 w 64800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907920"/>
            <a:ext cx="648000" cy="576360"/>
          </a:xfrm>
          <a:custGeom>
            <a:avLst/>
            <a:gdLst>
              <a:gd name="textAreaLeft" fmla="*/ 148680 w 648000"/>
              <a:gd name="textAreaRight" fmla="*/ 499320 w 648000"/>
              <a:gd name="textAreaTop" fmla="*/ 132120 h 576360"/>
              <a:gd name="textAreaBottom" fmla="*/ 4442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2" y="13894"/>
                </a:lnTo>
                <a:lnTo>
                  <a:pt x="3163" y="18437"/>
                </a:lnTo>
                <a:lnTo>
                  <a:pt x="7573" y="18402"/>
                </a:lnTo>
                <a:lnTo>
                  <a:pt x="10800" y="21600"/>
                </a:lnTo>
                <a:lnTo>
                  <a:pt x="13894" y="18458"/>
                </a:lnTo>
                <a:lnTo>
                  <a:pt x="18437" y="18437"/>
                </a:lnTo>
                <a:lnTo>
                  <a:pt x="18402" y="14027"/>
                </a:lnTo>
                <a:lnTo>
                  <a:pt x="21600" y="10800"/>
                </a:lnTo>
                <a:lnTo>
                  <a:pt x="18458" y="7706"/>
                </a:lnTo>
                <a:lnTo>
                  <a:pt x="18437" y="3163"/>
                </a:lnTo>
                <a:lnTo>
                  <a:pt x="14027" y="3198"/>
                </a:lnTo>
                <a:lnTo>
                  <a:pt x="10800" y="0"/>
                </a:lnTo>
                <a:lnTo>
                  <a:pt x="7706" y="3142"/>
                </a:lnTo>
                <a:lnTo>
                  <a:pt x="3163" y="3163"/>
                </a:lnTo>
                <a:lnTo>
                  <a:pt x="3198" y="7573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205000"/>
            <a:ext cx="7777440" cy="792360"/>
          </a:xfrm>
          <a:prstGeom prst="flowChartTerminator">
            <a:avLst/>
          </a:prstGeom>
          <a:gradFill rotWithShape="0">
            <a:gsLst>
              <a:gs pos="0">
                <a:srgbClr val="ff8200">
                  <a:alpha val="27058"/>
                </a:srgbClr>
              </a:gs>
              <a:gs pos="50000">
                <a:srgbClr val="000082">
                  <a:alpha val="29019"/>
                </a:srgbClr>
              </a:gs>
              <a:gs pos="100000">
                <a:srgbClr val="ff8200">
                  <a:alpha val="27058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وازن بين الأسماء المنقوصة في المجموعة (أ) وبين الألفا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ذاتها في المجموعة (ب) ، مع ملاحظة التغييرات عند التث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3141720"/>
            <a:ext cx="1727280" cy="647640"/>
          </a:xfrm>
          <a:prstGeom prst="downArrowCallout">
            <a:avLst>
              <a:gd name="adj1" fmla="val 66682"/>
              <a:gd name="adj2" fmla="val 66676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نقوص الم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3141720"/>
            <a:ext cx="1727280" cy="647640"/>
          </a:xfrm>
          <a:prstGeom prst="downArrowCallout">
            <a:avLst>
              <a:gd name="adj1" fmla="val 66682"/>
              <a:gd name="adj2" fmla="val 66676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غيي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4360" y="3141720"/>
            <a:ext cx="1727280" cy="647640"/>
          </a:xfrm>
          <a:prstGeom prst="downArrowCallout">
            <a:avLst>
              <a:gd name="adj1" fmla="val 66682"/>
              <a:gd name="adj2" fmla="val 66676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ثنـــــ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860640"/>
            <a:ext cx="9144000" cy="3020040"/>
          </a:xfrm>
          <a:prstGeom prst="rect">
            <a:avLst/>
          </a:prstGeom>
          <a:gradFill rotWithShape="0">
            <a:gsLst>
              <a:gs pos="0">
                <a:srgbClr val="006699">
                  <a:alpha val="33333"/>
                </a:srgbClr>
              </a:gs>
              <a:gs pos="50000">
                <a:srgbClr val="3399ff">
                  <a:alpha val="29019"/>
                </a:srgbClr>
              </a:gs>
              <a:gs pos="100000">
                <a:srgbClr val="006699">
                  <a:alpha val="3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النادي                           الناديان                   لم يحدث تغيير في الم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عند التث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القاضي                          القاضيان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محامٍ                            محاميان                    رُدَّتِ الياءُ المحذوفة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330120" y="4581360"/>
            <a:ext cx="39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لم يحدث تغيير في الم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   عند التث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96360" y="5805360"/>
            <a:ext cx="1547640" cy="1052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ستنت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877000"/>
            <a:ext cx="7596360" cy="981000"/>
          </a:xfrm>
          <a:prstGeom prst="flowChartTerminator">
            <a:avLst/>
          </a:prstGeom>
          <a:gradFill rotWithShape="0">
            <a:gsLst>
              <a:gs pos="0">
                <a:srgbClr val="ff8200">
                  <a:alpha val="27058"/>
                </a:srgbClr>
              </a:gs>
              <a:gs pos="50000">
                <a:srgbClr val="000082">
                  <a:alpha val="29019"/>
                </a:srgbClr>
              </a:gs>
              <a:gs pos="100000">
                <a:srgbClr val="ff8200">
                  <a:alpha val="27058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عند تثنية الاسم المنقوص تبقى ياؤه (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لم يحدث فيه تغيي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وترد الياء إذا كانت محذوفة (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في حال النكر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amera.wav"/>
      </p:stSnd>
    </p:sndAc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940"/>
                            </p:stCondLst>
                            <p:childTnLst>
                              <p:par>
                                <p:cTn id="10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1835280" cy="1052640"/>
          </a:xfrm>
          <a:custGeom>
            <a:avLst/>
            <a:gdLst>
              <a:gd name="textAreaLeft" fmla="*/ 419040 w 1835280"/>
              <a:gd name="textAreaRight" fmla="*/ 1416240 w 1835280"/>
              <a:gd name="textAreaTop" fmla="*/ 240120 h 1052640"/>
              <a:gd name="textAreaBottom" fmla="*/ 81252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0"/>
            <a:ext cx="7380360" cy="907920"/>
          </a:xfrm>
          <a:prstGeom prst="flowChartTerminator">
            <a:avLst/>
          </a:prstGeom>
          <a:gradFill rotWithShape="0">
            <a:gsLst>
              <a:gs pos="0">
                <a:srgbClr val="ff8200">
                  <a:alpha val="27058"/>
                </a:srgbClr>
              </a:gs>
              <a:gs pos="50000">
                <a:srgbClr val="000082">
                  <a:alpha val="29019"/>
                </a:srgbClr>
              </a:gs>
              <a:gs pos="100000">
                <a:srgbClr val="ff8200">
                  <a:alpha val="27058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ثنِّ الأسماء المنقوصة الآتية ، موضحًا التغييرات التي طرأت على الا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1125360"/>
            <a:ext cx="1727280" cy="1079640"/>
          </a:xfrm>
          <a:prstGeom prst="downArrowCallout">
            <a:avLst>
              <a:gd name="adj1" fmla="val 40000"/>
              <a:gd name="adj2" fmla="val 39997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نقوص الم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1125360"/>
            <a:ext cx="1727280" cy="1079640"/>
          </a:xfrm>
          <a:prstGeom prst="downArrowCallout">
            <a:avLst>
              <a:gd name="adj1" fmla="val 40000"/>
              <a:gd name="adj2" fmla="val 39997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غيي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27640" y="1125360"/>
            <a:ext cx="1726920" cy="1079640"/>
          </a:xfrm>
          <a:prstGeom prst="downArrowCallout">
            <a:avLst>
              <a:gd name="adj1" fmla="val 39992"/>
              <a:gd name="adj2" fmla="val 39988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ث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583000"/>
            <a:ext cx="9144000" cy="3933360"/>
          </a:xfrm>
          <a:prstGeom prst="rect">
            <a:avLst/>
          </a:prstGeom>
          <a:gradFill rotWithShape="0">
            <a:gsLst>
              <a:gs pos="0">
                <a:srgbClr val="006699">
                  <a:alpha val="49019"/>
                </a:srgbClr>
              </a:gs>
              <a:gs pos="50000">
                <a:srgbClr val="3399ff">
                  <a:alpha val="51372"/>
                </a:srgbClr>
              </a:gs>
              <a:gs pos="100000">
                <a:srgbClr val="0066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السامي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الد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مهتد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راع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40240" y="26049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سام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686160" y="2604960"/>
            <a:ext cx="442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لم يحدث تغيير عند التث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بقيت الياء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79120" y="350028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داع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686160" y="3468600"/>
            <a:ext cx="4425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لم يحدث تغيير عند التث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(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بقيت الياء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52560" y="436572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مهتد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90080" y="4365720"/>
            <a:ext cx="34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رُدَّتِ الياءُ المحذو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5040" y="5157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راع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225000" y="5124600"/>
            <a:ext cx="34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رُدَّتِ الياءُ المحذو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amera.wav"/>
      </p:stSnd>
    </p:sndAc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67640" y="0"/>
            <a:ext cx="1476360" cy="1197000"/>
          </a:xfrm>
          <a:prstGeom prst="flowChartMultidocument">
            <a:avLst/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</a:rPr>
              <a:t>ملاحظ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7645320" cy="11253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القاعدة الأصلية لتثنية الممدو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19700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إذا كانت الهمزة أصلية ( من الحروف الأصلية للكلمة ) تبقى عند التثن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مثل :        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ابتداء  –  قرّاء  –  إنشاء  –  اجتراء  –  إرج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بتداءان – قرّاءان – إنشاءان – اجتراءان – إرجاء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إذا كانت الهمزة زائدة للتأنيث تقلب واوا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مثل :      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صحراء   –   بيداء   –   نجلاء   –   صفراء   –   حمراء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صحراوان   -   بيداوان -   نجلاوان -   صفراوان  -  حمراو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إذا كانت الهمزة منقلبة عن حرف آخر ( الواو – الياء ) يجوز وجه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336600"/>
                </a:solidFill>
                <a:latin typeface="Arial"/>
              </a:rPr>
              <a:t>الأو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أن </a:t>
            </a:r>
            <a:r>
              <a:rPr b="1" lang="ar-SA" sz="2800" spc="-1" strike="noStrike">
                <a:solidFill>
                  <a:srgbClr val="336600"/>
                </a:solidFill>
                <a:latin typeface="Arial"/>
              </a:rPr>
              <a:t>تبقى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عند التثنية مثل :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بناء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ناءان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سماء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سماء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336600"/>
                </a:solidFill>
                <a:latin typeface="Arial"/>
              </a:rPr>
              <a:t>الثاني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2800" spc="-1" strike="noStrike">
                <a:solidFill>
                  <a:srgbClr val="336600"/>
                </a:solidFill>
                <a:latin typeface="Arial"/>
              </a:rPr>
              <a:t>تقلب الهمز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واً    مثل :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بناء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ناوان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سماء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سماو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060640"/>
            <a:ext cx="0" cy="43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2060640"/>
            <a:ext cx="0" cy="43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2060640"/>
            <a:ext cx="0" cy="43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2060640"/>
            <a:ext cx="0" cy="43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2060640"/>
            <a:ext cx="0" cy="43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3716280"/>
            <a:ext cx="0" cy="433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3716280"/>
            <a:ext cx="0" cy="433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3716280"/>
            <a:ext cx="0" cy="433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3716280"/>
            <a:ext cx="0" cy="433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16000" y="3716280"/>
            <a:ext cx="0" cy="433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492000" y="5300640"/>
            <a:ext cx="358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116000" y="5300640"/>
            <a:ext cx="4334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492000" y="5734080"/>
            <a:ext cx="358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116000" y="5734080"/>
            <a:ext cx="4334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021360"/>
            <a:ext cx="9144000" cy="836640"/>
          </a:xfrm>
          <a:prstGeom prst="flowChartTerminator">
            <a:avLst/>
          </a:prstGeom>
          <a:gradFill rotWithShape="0">
            <a:gsLst>
              <a:gs pos="0">
                <a:srgbClr val="ff8200">
                  <a:alpha val="27058"/>
                </a:srgbClr>
              </a:gs>
              <a:gs pos="50000">
                <a:srgbClr val="000082">
                  <a:alpha val="29019"/>
                </a:srgbClr>
              </a:gs>
              <a:gs pos="100000">
                <a:srgbClr val="ff8200">
                  <a:alpha val="27058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اسأل معلمك عن كيفية التعرف على أصل الهمزة ( أصلية أو منقلب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51640" y="6021360"/>
            <a:ext cx="1692360" cy="83664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لاحظ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amera.wav"/>
      </p:stSnd>
    </p:sndAc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2340000" cy="1052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240120 h 1052640"/>
              <a:gd name="textAreaBottom" fmla="*/ 81252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0"/>
            <a:ext cx="6804000" cy="10526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ثنِّ الأسماء الممدودة الآتية ، موضحاً التغييرات الت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طرأت على الاس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97160"/>
          <a:ext cx="8207280" cy="5032080"/>
        </p:xfrm>
        <a:graphic>
          <a:graphicData uri="http://schemas.openxmlformats.org/drawingml/2006/table">
            <a:tbl>
              <a:tblPr/>
              <a:tblGrid>
                <a:gridCol w="2735280"/>
                <a:gridCol w="2736720"/>
                <a:gridCol w="273528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غيي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ثن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م الممدو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عدّاء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نجلاء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حمراء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رثاء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3188880" y="2133720"/>
            <a:ext cx="286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عدّاء</a:t>
            </a:r>
            <a:r>
              <a:rPr b="1" lang="hi-IN" sz="5400" spc="-1" strike="noStrike">
                <a:solidFill>
                  <a:srgbClr val="cc3300"/>
                </a:solidFill>
                <a:latin typeface="Arial"/>
              </a:rPr>
              <a:t>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22680" y="2133720"/>
            <a:ext cx="361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لم يحدث 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32200" y="3213000"/>
            <a:ext cx="32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نجلاو</a:t>
            </a:r>
            <a:r>
              <a:rPr b="1" lang="hi-IN" sz="5400" spc="-1" strike="noStrike">
                <a:solidFill>
                  <a:srgbClr val="cc3300"/>
                </a:solidFill>
                <a:latin typeface="Arial"/>
              </a:rPr>
              <a:t>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193320" y="335772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قلبت الهمزة واو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87120" y="4221000"/>
            <a:ext cx="35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ff"/>
                </a:solidFill>
                <a:latin typeface="Arial"/>
              </a:rPr>
              <a:t>الحمراو</a:t>
            </a:r>
            <a:r>
              <a:rPr b="1" lang="ar-SA" sz="5400" spc="-1" strike="noStrike">
                <a:solidFill>
                  <a:srgbClr val="cc3300"/>
                </a:solidFill>
                <a:latin typeface="Arial"/>
              </a:rPr>
              <a:t>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193320" y="443700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قلبت الهمزة واو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05520" y="5373720"/>
            <a:ext cx="278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ff"/>
                </a:solidFill>
                <a:latin typeface="Arial"/>
              </a:rPr>
              <a:t>الرثاء</a:t>
            </a:r>
            <a:r>
              <a:rPr b="1" lang="ar-SA" sz="5400" spc="-1" strike="noStrike">
                <a:solidFill>
                  <a:srgbClr val="cc3300"/>
                </a:solidFill>
                <a:latin typeface="Arial"/>
              </a:rPr>
              <a:t>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960" y="5445000"/>
            <a:ext cx="361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لم يحدث 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amera.wav"/>
      </p:stSnd>
    </p:sndAc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0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2340000" cy="620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41480 h 620640"/>
              <a:gd name="textAreaBottom" fmla="*/ 479160 h 62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0"/>
            <a:ext cx="6804000" cy="6206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قرأ الأمثلة التالية ، ثم املأ الجدول بما هو مطل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5280" y="692280"/>
            <a:ext cx="5508720" cy="192276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50000">
                <a:srgbClr val="ffccff"/>
              </a:gs>
              <a:gs pos="100000">
                <a:srgbClr val="ffff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بثُّ القناةُ الفضائيةُ نشراتٍ إخباريةً مستمرة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قبلتِ الجماهيرُ البطلَ المفدّى في الملتقى بالهت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هذا القرّاءُ يجيدُ الأداء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92280"/>
            <a:ext cx="3635280" cy="119124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50000">
                <a:srgbClr val="ffccff"/>
              </a:gs>
              <a:gs pos="100000">
                <a:srgbClr val="ffff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عاملُ منتهٍ من عملِ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ُكمُ القاضي نافذ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1916280"/>
          <a:ext cx="9144000" cy="465768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غيي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 الجم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مع السا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مدو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نقو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قصو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نو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نا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لتقي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لتق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فدَّ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فدّ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ّاؤ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ّ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داء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د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ته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ته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اض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50000">
                          <a:srgbClr val="fee7f2"/>
                        </a:gs>
                        <a:gs pos="100000">
                          <a:srgbClr val="fbeac7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اض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6659640" y="2997360"/>
            <a:ext cx="987480" cy="431640"/>
          </a:xfrm>
          <a:prstGeom prst="smileyFace">
            <a:avLst>
              <a:gd name="adj" fmla="val 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3500280"/>
            <a:ext cx="987480" cy="432000"/>
          </a:xfrm>
          <a:prstGeom prst="smileyFace">
            <a:avLst>
              <a:gd name="adj" fmla="val 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59640" y="4005360"/>
            <a:ext cx="987480" cy="431640"/>
          </a:xfrm>
          <a:prstGeom prst="smileyFace">
            <a:avLst>
              <a:gd name="adj" fmla="val 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7280" y="4508640"/>
            <a:ext cx="987480" cy="431640"/>
          </a:xfrm>
          <a:prstGeom prst="smileyFace">
            <a:avLst>
              <a:gd name="adj" fmla="val 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5084640"/>
            <a:ext cx="987480" cy="432000"/>
          </a:xfrm>
          <a:prstGeom prst="smileyFace">
            <a:avLst>
              <a:gd name="adj" fmla="val 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64000" y="5589720"/>
            <a:ext cx="987480" cy="431640"/>
          </a:xfrm>
          <a:prstGeom prst="smileyFace">
            <a:avLst>
              <a:gd name="adj" fmla="val 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64000" y="6093000"/>
            <a:ext cx="987480" cy="431640"/>
          </a:xfrm>
          <a:prstGeom prst="smileyFace">
            <a:avLst>
              <a:gd name="adj" fmla="val 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91400" y="29242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ؤن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1400" y="35002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ؤن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76000" y="397368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213120" y="292428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   حذفت التا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cc3300"/>
                </a:solidFill>
                <a:latin typeface="Arial"/>
              </a:rPr>
              <a:t>وردت الألف لأصله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760" y="3473280"/>
            <a:ext cx="13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cc3300"/>
                </a:solidFill>
                <a:latin typeface="Arial"/>
              </a:rPr>
              <a:t>قلبت الأل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ياء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-36000" y="41212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cc3300"/>
                </a:solidFill>
                <a:latin typeface="Arial"/>
              </a:rPr>
              <a:t>حذفتِ الأل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1320" y="450864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-388080" y="450864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بقيتِ الهم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1400" y="50133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ؤن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013360"/>
            <a:ext cx="14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بقيتِ الهم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00040" y="551664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516640"/>
            <a:ext cx="11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cc3300"/>
                </a:solidFill>
                <a:latin typeface="Arial"/>
              </a:rPr>
              <a:t>بقيت الي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cc3300"/>
                </a:solidFill>
                <a:latin typeface="Arial"/>
              </a:rPr>
              <a:t>محذوف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02920" y="598968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269280" y="609300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حذفت الي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amera.wav"/>
      </p:stSnd>
    </p:sndAc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480"/>
                            </p:stCondLst>
                            <p:childTnLst>
                              <p:par>
                                <p:cTn id="1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5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1307880 w 9144000"/>
              <a:gd name="textAreaRight" fmla="*/ 783612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15" y="0"/>
                </a:lnTo>
                <a:arcTo wR="675" hR="675" stAng="16200000" swAng="5400000"/>
                <a:lnTo>
                  <a:pt x="5790" y="2700"/>
                </a:lnTo>
                <a:lnTo>
                  <a:pt x="15810" y="2700"/>
                </a:lnTo>
                <a:lnTo>
                  <a:pt x="1581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510" y="18900"/>
                </a:lnTo>
                <a:lnTo>
                  <a:pt x="18510" y="20925"/>
                </a:lnTo>
                <a:arcTo wR="675" hR="675" stAng="0" swAng="5400000"/>
                <a:lnTo>
                  <a:pt x="3765" y="21600"/>
                </a:lnTo>
                <a:arcTo wR="675" hR="675" stAng="5400000" swAng="5400000"/>
                <a:lnTo>
                  <a:pt x="309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790" y="675"/>
                </a:moveTo>
                <a:arcTo wR="675" hR="675" stAng="0" swAng="5400000"/>
                <a:lnTo>
                  <a:pt x="3765" y="1350"/>
                </a:lnTo>
                <a:arcTo wR="675" hR="675" stAng="16200000" swAng="-5400000"/>
                <a:arcTo wR="675" hR="675" stAng="10800000" swAng="-5400000"/>
                <a:lnTo>
                  <a:pt x="5790" y="2700"/>
                </a:lnTo>
              </a:path>
              <a:path fill="none" w="21600" h="21600">
                <a:moveTo>
                  <a:pt x="15810" y="675"/>
                </a:moveTo>
                <a:arcTo wR="675" hR="675" stAng="10800000" swAng="-5400000"/>
                <a:lnTo>
                  <a:pt x="17835" y="1350"/>
                </a:lnTo>
                <a:arcTo wR="675" hR="675" stAng="16200000" swAng="5400000"/>
                <a:arcTo wR="675" hR="675" stAng="0" swAng="5400000"/>
                <a:lnTo>
                  <a:pt x="15810" y="2700"/>
                </a:lnTo>
              </a:path>
              <a:path fill="none" w="21600" h="21600">
                <a:moveTo>
                  <a:pt x="3090" y="2025"/>
                </a:moveTo>
                <a:lnTo>
                  <a:pt x="3090" y="18900"/>
                </a:lnTo>
              </a:path>
              <a:path fill="none" w="21600" h="21600">
                <a:moveTo>
                  <a:pt x="18510" y="2025"/>
                </a:moveTo>
                <a:lnTo>
                  <a:pt x="18510" y="18900"/>
                </a:lnTo>
              </a:path>
            </a:pathLst>
          </a:cu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قاعدة  تثنية الأسماء المقصورة والمنقوصة والممد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20640"/>
            <a:ext cx="9144000" cy="3385800"/>
          </a:xfrm>
          <a:prstGeom prst="rect">
            <a:avLst/>
          </a:prstGeom>
          <a:gradFill rotWithShape="0">
            <a:gsLst>
              <a:gs pos="0">
                <a:srgbClr val="fae3b7">
                  <a:alpha val="56078"/>
                </a:srgbClr>
              </a:gs>
              <a:gs pos="50000">
                <a:srgbClr val="fbe4ae">
                  <a:alpha val="57254"/>
                </a:srgbClr>
              </a:gs>
              <a:gs pos="100000">
                <a:srgbClr val="fae3b7">
                  <a:alpha val="5607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ند تثنية الاسم المقصور : ترد الألف الثالثة إلى أصلها  ( واو أو ياء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تقلب الألف الرابعة فأكثر إلى ياءٍ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ند تثنية الاسم المنقوص : تبقى الياء كما هي ( لا يحدث تغيير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وترد الياء إذا كانت محذوفة . ( في حال المنقوص النكر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ند تثنية الاسم الممدود :  تبقى الهمزة إذا كان مذكرً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وتقلب واوًا إذا كان مؤنثً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852640"/>
            <a:ext cx="9144000" cy="609840"/>
          </a:xfrm>
          <a:custGeom>
            <a:avLst/>
            <a:gdLst>
              <a:gd name="textAreaLeft" fmla="*/ 1307880 w 9144000"/>
              <a:gd name="textAreaRight" fmla="*/ 7836120 w 914400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15" y="0"/>
                </a:lnTo>
                <a:arcTo wR="675" hR="675" stAng="16200000" swAng="5400000"/>
                <a:lnTo>
                  <a:pt x="5790" y="2700"/>
                </a:lnTo>
                <a:lnTo>
                  <a:pt x="15810" y="2700"/>
                </a:lnTo>
                <a:lnTo>
                  <a:pt x="1581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510" y="18900"/>
                </a:lnTo>
                <a:lnTo>
                  <a:pt x="18510" y="20925"/>
                </a:lnTo>
                <a:arcTo wR="675" hR="675" stAng="0" swAng="5400000"/>
                <a:lnTo>
                  <a:pt x="3765" y="21600"/>
                </a:lnTo>
                <a:arcTo wR="675" hR="675" stAng="5400000" swAng="5400000"/>
                <a:lnTo>
                  <a:pt x="309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790" y="675"/>
                </a:moveTo>
                <a:arcTo wR="675" hR="675" stAng="0" swAng="5400000"/>
                <a:lnTo>
                  <a:pt x="3765" y="1350"/>
                </a:lnTo>
                <a:arcTo wR="675" hR="675" stAng="16200000" swAng="-5400000"/>
                <a:arcTo wR="675" hR="675" stAng="10800000" swAng="-5400000"/>
                <a:lnTo>
                  <a:pt x="5790" y="2700"/>
                </a:lnTo>
              </a:path>
              <a:path fill="none" w="21600" h="21600">
                <a:moveTo>
                  <a:pt x="15810" y="675"/>
                </a:moveTo>
                <a:arcTo wR="675" hR="675" stAng="10800000" swAng="-5400000"/>
                <a:lnTo>
                  <a:pt x="17835" y="1350"/>
                </a:lnTo>
                <a:arcTo wR="675" hR="675" stAng="16200000" swAng="5400000"/>
                <a:arcTo wR="675" hR="675" stAng="0" swAng="5400000"/>
                <a:lnTo>
                  <a:pt x="15810" y="2700"/>
                </a:lnTo>
              </a:path>
              <a:path fill="none" w="21600" h="21600">
                <a:moveTo>
                  <a:pt x="3090" y="2025"/>
                </a:moveTo>
                <a:lnTo>
                  <a:pt x="3090" y="18900"/>
                </a:lnTo>
              </a:path>
              <a:path fill="none" w="21600" h="21600">
                <a:moveTo>
                  <a:pt x="18510" y="2025"/>
                </a:moveTo>
                <a:lnTo>
                  <a:pt x="18510" y="18900"/>
                </a:lnTo>
              </a:path>
            </a:pathLst>
          </a:cu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قاعدة جمع الأسماء المقصورة والمنقوصة والممد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500280"/>
            <a:ext cx="8985240" cy="3385800"/>
          </a:xfrm>
          <a:prstGeom prst="rect">
            <a:avLst/>
          </a:prstGeom>
          <a:gradFill rotWithShape="0">
            <a:gsLst>
              <a:gs pos="0">
                <a:srgbClr val="7f7f7f">
                  <a:alpha val="44313"/>
                </a:srgbClr>
              </a:gs>
              <a:gs pos="50000">
                <a:srgbClr val="ffffff">
                  <a:alpha val="44313"/>
                </a:srgbClr>
              </a:gs>
              <a:gs pos="100000">
                <a:srgbClr val="7f7f7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عند جمع المقصور والمنقوص جمع مذكرٍ سالمً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تحذف الألف من المقصور (ويبقى ما قبلها مفتوحا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تحذف الياء من المنقوص (ويُضم ما قبل الواو ، ويكسر ما قبل اليا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عند جمع الاسم الممدود جمع مذكرٍ سالمًا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يعامل معاملة الصحيح ( أي تبقى الهمز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عند جمع المقصور والمنقوص والممدود جمعَ مؤنثٍ سالمً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يعامل معاملة المث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amera.wav"/>
      </p:stSnd>
    </p:sndAc>
  </p:transition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84240"/>
            <a:ext cx="9144000" cy="947160"/>
          </a:xfrm>
          <a:prstGeom prst="rect">
            <a:avLst/>
          </a:prstGeom>
          <a:gradFill rotWithShape="0">
            <a:gsLst>
              <a:gs pos="0">
                <a:srgbClr val="000082">
                  <a:alpha val="27058"/>
                </a:srgbClr>
              </a:gs>
              <a:gs pos="50000">
                <a:srgbClr val="ff8200">
                  <a:alpha val="29019"/>
                </a:srgbClr>
              </a:gs>
              <a:gs pos="100000">
                <a:srgbClr val="000082">
                  <a:alpha val="2705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قرأ العبارات الآتية ثم املأ الجدول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2340000" cy="1052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240120 h 1052640"/>
              <a:gd name="textAreaBottom" fmla="*/ 81252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981000"/>
            <a:ext cx="9144000" cy="1557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أدتِ الممرضةُ واجبَها في المستشفى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يدافعُ الجنودُ عن الحمى بكلِّ غالٍ ونفيس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سرتُ في وادٍ عميقٍ ورأيتُ عجبًا : أفعى تبتلعُ أفعى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رددتُ نداءَ المؤذّن للصلا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2637000"/>
          <a:ext cx="9144000" cy="4025880"/>
        </p:xfrm>
        <a:graphic>
          <a:graphicData uri="http://schemas.openxmlformats.org/drawingml/2006/table">
            <a:tbl>
              <a:tblPr/>
              <a:tblGrid>
                <a:gridCol w="1835280"/>
                <a:gridCol w="1512720"/>
                <a:gridCol w="1871640"/>
                <a:gridCol w="1440000"/>
                <a:gridCol w="1297080"/>
                <a:gridCol w="1187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غيي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ند الجم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مع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غي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ند التثن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نا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وع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مستشف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غال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أفع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ند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6603480" y="380844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مق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26680" y="380844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Arial"/>
              </a:rPr>
              <a:t>مستشفي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7680" y="380844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قلبت الألفُ ياء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02360" y="380844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Arial"/>
              </a:rPr>
              <a:t>مستشف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271080" y="378936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قلبت الألف ياء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23640" y="45086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منقو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26640" y="458136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Arial"/>
              </a:rPr>
              <a:t>غالي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73200" y="43657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رُدتِ الياء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حذوفة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29760" y="45813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Arial"/>
              </a:rPr>
              <a:t>غال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61920" y="4365720"/>
            <a:ext cx="189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حذفت الياء وب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ا قبلها مفتوحً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75120" y="524844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مق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7760" y="530064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Arial"/>
              </a:rPr>
              <a:t>أفعي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7680" y="524844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قلبتِ الألفُ ياء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97280" y="530064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Arial"/>
              </a:rPr>
              <a:t>أفع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256680" y="524844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قلبتِ الألفُ ياء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70880" y="5950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ممد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3480" y="6040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Arial"/>
              </a:rPr>
              <a:t>النداء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99760" y="602136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بقيتِ الهم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76600" y="596736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Arial"/>
              </a:rPr>
              <a:t>النداؤ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65880" y="596736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بقيتِ الهم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2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8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90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40360" y="0"/>
            <a:ext cx="2354040" cy="9144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تأمل وفك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15520" y="981000"/>
            <a:ext cx="604044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ص</a:t>
            </a: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المهتد</a:t>
            </a: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الصحر</a:t>
            </a: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57360"/>
            <a:ext cx="9144000" cy="3141720"/>
          </a:xfrm>
          <a:prstGeom prst="rect">
            <a:avLst/>
          </a:prstGeom>
          <a:gradFill rotWithShape="0">
            <a:gsLst>
              <a:gs pos="0">
                <a:srgbClr val="ddebcf">
                  <a:alpha val="37254"/>
                </a:srgbClr>
              </a:gs>
              <a:gs pos="50000">
                <a:srgbClr val="156b13">
                  <a:alpha val="37254"/>
                </a:srgbClr>
              </a:gs>
              <a:gs pos="100000">
                <a:srgbClr val="ddebcf">
                  <a:alpha val="37254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هذه أسماء تنتهي بـ : ا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لأل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 الياء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الهمزة المسبوقة بألف زائ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وإذا أردنا أن نصوغ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مثنى والجمع السال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نها ، قد نصل إلى ذلك بسهولة أحيان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وأحيانًا أخرى قد تعترضنا بعض المشكلات (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صعوبة النطق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نتيجة التقاء الحرو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السابقة بعلامات المثنى أو علامات الجمع { </a:t>
            </a:r>
            <a:r>
              <a:rPr b="1" lang="ar-SA" sz="2400" spc="-1" strike="noStrike">
                <a:solidFill>
                  <a:srgbClr val="000099"/>
                </a:solidFill>
                <a:latin typeface="Arial"/>
              </a:rPr>
              <a:t>ان – ين –ون– 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} ...  </a:t>
            </a:r>
            <a:r>
              <a:rPr b="1" lang="ar-SA" sz="3200" spc="-1" strike="noStrike">
                <a:solidFill>
                  <a:srgbClr val="cc3300"/>
                </a:solidFill>
                <a:latin typeface="Arial"/>
              </a:rPr>
              <a:t>انظ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3933720"/>
            <a:ext cx="1778040" cy="627120"/>
          </a:xfrm>
          <a:prstGeom prst="roundRect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صـــــــ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4941720"/>
            <a:ext cx="1778040" cy="627120"/>
          </a:xfrm>
          <a:prstGeom prst="roundRect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هتـد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5950080"/>
            <a:ext cx="1778040" cy="625320"/>
          </a:xfrm>
          <a:prstGeom prst="roundRect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صحر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3357720"/>
            <a:ext cx="1562040" cy="431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المثن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3357720"/>
            <a:ext cx="1562040" cy="431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جمع السا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8120" y="3879720"/>
            <a:ext cx="28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عصــ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عصــ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360" y="4076640"/>
            <a:ext cx="28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عصــ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90440" y="4888080"/>
            <a:ext cx="299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مهتد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مهتد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3760" y="4869000"/>
            <a:ext cx="299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مهتد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مهتد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58053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صحر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ا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صحر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ي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6021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صحر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ا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  =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7813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3" name="camera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4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19280" y="0"/>
            <a:ext cx="6624720" cy="1042920"/>
          </a:xfrm>
          <a:prstGeom prst="bevel">
            <a:avLst>
              <a:gd name="adj" fmla="val 25569"/>
            </a:avLst>
          </a:prstGeom>
          <a:solidFill>
            <a:srgbClr val="0000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ffff"/>
                </a:solidFill>
                <a:latin typeface="Arial"/>
              </a:rPr>
              <a:t>مفهوم المقصور والمنقوص والممد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94680" y="1268280"/>
            <a:ext cx="184932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ولاً : المق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2340000" cy="1052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240120 h 1052640"/>
              <a:gd name="textAreaBottom" fmla="*/ 81252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700280"/>
            <a:ext cx="723600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كالطيف جئت بلا 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خطً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وبلا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صدً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بلا إث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46040" y="112536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اقرأ ولاح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565360"/>
            <a:ext cx="8496000" cy="3888000"/>
          </a:xfrm>
          <a:prstGeom prst="flowChartMultidocument">
            <a:avLst/>
          </a:prstGeom>
          <a:gradFill rotWithShape="0">
            <a:gsLst>
              <a:gs pos="0">
                <a:srgbClr val="ffccff"/>
              </a:gs>
              <a:gs pos="50000">
                <a:srgbClr val="ffffd9"/>
              </a:gs>
              <a:gs pos="100000">
                <a:srgbClr val="ff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52160" y="3213000"/>
            <a:ext cx="1044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99"/>
                </a:solidFill>
                <a:latin typeface="Arial"/>
              </a:rPr>
              <a:t>بتأمل الكلم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خطًى ، صدً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99"/>
                </a:solidFill>
                <a:latin typeface="Arial"/>
              </a:rPr>
              <a:t>تجد أن كلاً منهما اسم معرب ، ينتهي بألف لازم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أصلية لا يُستغنى عنه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99"/>
                </a:solidFill>
                <a:latin typeface="Arial"/>
              </a:rPr>
              <a:t>ولا تفارقه إملاء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وقد تسقط الألف عند النطق (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لا تنط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إذا كان الاسم نكرة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( منونًا ) ، وينطق التنوين فقط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من مثل :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هدًى ، هوًى ، خطًى ، صدً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هذه الأسماء وأمثالُها يطلق عليها      ( </a:t>
            </a: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أسماء المقصو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294680" y="260280"/>
            <a:ext cx="184932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ثانيًا : المنقو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0640"/>
            <a:ext cx="726120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قال 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راو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فهذا ما كان من الأميرة ذات اله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17320" y="0"/>
            <a:ext cx="2098080" cy="520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قرأ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ولاح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484280"/>
            <a:ext cx="8424720" cy="4608720"/>
          </a:xfrm>
          <a:prstGeom prst="flowChartMultidocument">
            <a:avLst/>
          </a:prstGeom>
          <a:gradFill rotWithShape="0">
            <a:gsLst>
              <a:gs pos="0">
                <a:srgbClr val="ffccff"/>
              </a:gs>
              <a:gs pos="50000">
                <a:srgbClr val="ffffd9"/>
              </a:gs>
              <a:gs pos="100000">
                <a:srgbClr val="ff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110600" y="2349360"/>
            <a:ext cx="99860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بتأمل كلمة (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لراو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في المثال السابق ، تجد أنها </a:t>
            </a: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سم معرب ينت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بياء أصلية غير مشددة مكسور ما قب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وهذا الاسم وأمثالُه يطلق عليه (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لاسم المنقو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i-IN" sz="2800" spc="-1" strike="noStrike" u="sng">
                <a:solidFill>
                  <a:srgbClr val="0000ff"/>
                </a:solidFill>
                <a:uFillTx/>
                <a:latin typeface="Arial"/>
              </a:rPr>
              <a:t>مع ملاحظ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أن هذه الياء تحذف إذا كان الاسم نكرةً في حال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الرفع والجر فقط ، ويُعوّض عنها بتنو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وتبقى الياء في الاسم  في حالتي النصب والمعرف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2800" spc="-1" strike="noStrike" u="sng">
                <a:solidFill>
                  <a:srgbClr val="0000ff"/>
                </a:solidFill>
                <a:uFillTx/>
                <a:latin typeface="Arial"/>
              </a:rPr>
              <a:t>أمثلة ذل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 نقول  : جاء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محامٍ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،  ونقولُ : مررتُ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بمحام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ونقولُ : رأيتُ </a:t>
            </a: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محاميً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،  ونقولُ : جاء </a:t>
            </a: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المحا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ونقولُ : مررت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بمحام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مت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2340000" cy="1052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240120 h 1052640"/>
              <a:gd name="textAreaBottom" fmla="*/ 81252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d9"/>
                </a:solidFill>
                <a:latin typeface="Arial"/>
              </a:rPr>
              <a:t>   اقرأ النص صـ</a:t>
            </a:r>
            <a:r>
              <a:rPr b="1" lang="en-US" sz="2800" spc="-1" strike="noStrike">
                <a:solidFill>
                  <a:srgbClr val="ffffd9"/>
                </a:solidFill>
                <a:latin typeface="Arial"/>
              </a:rPr>
              <a:t>81</a:t>
            </a:r>
            <a:r>
              <a:rPr b="1" lang="en-US" sz="2800" spc="-1" strike="noStrike">
                <a:solidFill>
                  <a:srgbClr val="ffffd9"/>
                </a:solidFill>
                <a:latin typeface="Arial"/>
              </a:rPr>
              <a:t> ، ثم استخرج منه الأسم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d9"/>
                </a:solidFill>
                <a:latin typeface="Arial"/>
              </a:rPr>
              <a:t>       المقصورة ، والمنقوصة ، والممدو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413000"/>
          <a:ext cx="7993080" cy="4680000"/>
        </p:xfrm>
        <a:graphic>
          <a:graphicData uri="http://schemas.openxmlformats.org/drawingml/2006/table">
            <a:tbl>
              <a:tblPr/>
              <a:tblGrid>
                <a:gridCol w="2664000"/>
                <a:gridCol w="2665440"/>
                <a:gridCol w="266364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مدو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نقو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قصو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8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773520" y="2273400"/>
            <a:ext cx="13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قاض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53000" y="350028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قاضيً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48440" y="2222640"/>
            <a:ext cx="19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600"/>
                </a:solidFill>
                <a:latin typeface="Arial"/>
              </a:rPr>
              <a:t>الضح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8160" y="227664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3300"/>
                </a:solidFill>
                <a:latin typeface="Arial"/>
              </a:rPr>
              <a:t>بن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94960" y="4076640"/>
            <a:ext cx="168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600"/>
                </a:solidFill>
                <a:latin typeface="Arial"/>
              </a:rPr>
              <a:t>مصل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48160" y="414972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3300"/>
                </a:solidFill>
                <a:latin typeface="Arial"/>
              </a:rPr>
              <a:t>العش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5760" y="472428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مصل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amera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أمامك مجموعة من الكلمات ، ميّز منها الأسماء المقصو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والمنقوصة والممدودة ، حسب الجدول الآت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2340000" cy="1052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240120 h 1052640"/>
              <a:gd name="textAreaBottom" fmla="*/ 81252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00080"/>
            <a:ext cx="9144000" cy="1557000"/>
          </a:xfrm>
          <a:prstGeom prst="rect">
            <a:avLst/>
          </a:prstGeom>
          <a:gradFill rotWithShape="0">
            <a:gsLst>
              <a:gs pos="0">
                <a:srgbClr val="dcebf5">
                  <a:alpha val="38039"/>
                </a:srgbClr>
              </a:gs>
              <a:gs pos="50000">
                <a:srgbClr val="55261c">
                  <a:alpha val="38039"/>
                </a:srgbClr>
              </a:gs>
              <a:gs pos="100000">
                <a:srgbClr val="dcebf5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ماء – علميّ – على – مدى – استثناءة – الذي – مضى – الوادي–النوى – هذا -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ثناء – يجري – الهدى – عليّ – نادٍ – الوعاء – ظبيٌ – ساء – كساء – راضٍ -كتا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916280"/>
          <a:ext cx="8496000" cy="4941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ب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مدو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نقو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قصو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حرف ج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سم مب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عل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ذ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840200" y="287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8880" y="28526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سم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33160" y="35002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علمي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1960" y="3500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اء النس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28680" y="282096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م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0400" y="38606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9280" y="386064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لألف أص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7880" y="422100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استثناء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6280" y="42210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تاء التأني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52960" y="45813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مض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1520" y="4581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فع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19240" y="285264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وا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48040" y="32846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نو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76840" y="335772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ستثن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70960" y="49417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ج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1520" y="4941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فع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24280" y="378936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ه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43320" y="5373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علي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8120" y="5373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لياء مشد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58720" y="330660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ناد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43080" y="382896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وع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35240" y="375768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ظ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44120" y="57340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س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93160" y="5734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فع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70520" y="429264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كس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45320" y="429264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راض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800" y="60213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هذ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1920" y="6021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اسم مب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8280" y="42926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رض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6237360"/>
            <a:ext cx="7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كتا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630864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ياء الملك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5013360"/>
            <a:ext cx="5111640" cy="1440000"/>
          </a:xfrm>
          <a:custGeom>
            <a:avLst/>
            <a:gdLst>
              <a:gd name="textAreaLeft" fmla="*/ 1166760 w 5111640"/>
              <a:gd name="textAreaRight" fmla="*/ 3944880 w 51116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ماذا تستنتج 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amera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2340000" cy="1052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240120 h 1052640"/>
              <a:gd name="textAreaBottom" fmla="*/ 81252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0"/>
            <a:ext cx="4032000" cy="914400"/>
          </a:xfrm>
          <a:custGeom>
            <a:avLst/>
            <a:gdLst>
              <a:gd name="textAreaLeft" fmla="*/ 920520 w 4032000"/>
              <a:gd name="textAreaRight" fmla="*/ 3111480 w 40320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قرأ ثم لاح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907920"/>
            <a:ext cx="648000" cy="576360"/>
          </a:xfrm>
          <a:custGeom>
            <a:avLst/>
            <a:gdLst>
              <a:gd name="textAreaLeft" fmla="*/ 147960 w 648000"/>
              <a:gd name="textAreaRight" fmla="*/ 500040 w 64800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907920"/>
            <a:ext cx="648000" cy="576360"/>
          </a:xfrm>
          <a:custGeom>
            <a:avLst/>
            <a:gdLst>
              <a:gd name="textAreaLeft" fmla="*/ 148680 w 648000"/>
              <a:gd name="textAreaRight" fmla="*/ 499320 w 648000"/>
              <a:gd name="textAreaTop" fmla="*/ 132120 h 576360"/>
              <a:gd name="textAreaBottom" fmla="*/ 4442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2" y="13894"/>
                </a:lnTo>
                <a:lnTo>
                  <a:pt x="3163" y="18437"/>
                </a:lnTo>
                <a:lnTo>
                  <a:pt x="7573" y="18402"/>
                </a:lnTo>
                <a:lnTo>
                  <a:pt x="10800" y="21600"/>
                </a:lnTo>
                <a:lnTo>
                  <a:pt x="13894" y="18458"/>
                </a:lnTo>
                <a:lnTo>
                  <a:pt x="18437" y="18437"/>
                </a:lnTo>
                <a:lnTo>
                  <a:pt x="18402" y="14027"/>
                </a:lnTo>
                <a:lnTo>
                  <a:pt x="21600" y="10800"/>
                </a:lnTo>
                <a:lnTo>
                  <a:pt x="18458" y="7706"/>
                </a:lnTo>
                <a:lnTo>
                  <a:pt x="18437" y="3163"/>
                </a:lnTo>
                <a:lnTo>
                  <a:pt x="14027" y="3198"/>
                </a:lnTo>
                <a:lnTo>
                  <a:pt x="10800" y="0"/>
                </a:lnTo>
                <a:lnTo>
                  <a:pt x="7706" y="3142"/>
                </a:lnTo>
                <a:lnTo>
                  <a:pt x="3163" y="3163"/>
                </a:lnTo>
                <a:lnTo>
                  <a:pt x="3198" y="7573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503360"/>
            <a:ext cx="9144000" cy="2288520"/>
          </a:xfrm>
          <a:prstGeom prst="rect">
            <a:avLst/>
          </a:prstGeom>
          <a:gradFill rotWithShape="0">
            <a:gsLst>
              <a:gs pos="0">
                <a:srgbClr val="156b13">
                  <a:alpha val="43137"/>
                </a:srgbClr>
              </a:gs>
              <a:gs pos="50000">
                <a:srgbClr val="ddebcf">
                  <a:alpha val="46274"/>
                </a:srgbClr>
              </a:gs>
              <a:gs pos="100000">
                <a:srgbClr val="156b13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هذا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 فتً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ن قريتنا                                        هذان 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فتيا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ن قريت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للزهرةِ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 شذً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َبِقٌ                                          للزهرتين 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شذوا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بِق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أدرك السائسُ أن الفرسَ 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عطش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أدرك السائسُ أن الفرسين 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</a:rPr>
              <a:t>عطشي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9640" y="0"/>
            <a:ext cx="3024360" cy="914400"/>
          </a:xfrm>
          <a:custGeom>
            <a:avLst/>
            <a:gdLst>
              <a:gd name="textAreaLeft" fmla="*/ 690480 w 3024360"/>
              <a:gd name="textAreaRight" fmla="*/ 2333880 w 3024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ثنية المقص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2708280"/>
            <a:ext cx="7777080" cy="792000"/>
          </a:xfrm>
          <a:prstGeom prst="flowChartTerminator">
            <a:avLst/>
          </a:prstGeom>
          <a:gradFill rotWithShape="0">
            <a:gsLst>
              <a:gs pos="0">
                <a:srgbClr val="ff8200">
                  <a:alpha val="27058"/>
                </a:srgbClr>
              </a:gs>
              <a:gs pos="50000">
                <a:srgbClr val="000082">
                  <a:alpha val="29019"/>
                </a:srgbClr>
              </a:gs>
              <a:gs pos="100000">
                <a:srgbClr val="ff8200">
                  <a:alpha val="27058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وازن بين الأسماء المقصورة في المجموعة (أ) وبين الألفا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ذاتها في المجموعة (ب) ، مع ملاحظة التغييرات وترتيب الأ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04000" y="3645000"/>
            <a:ext cx="1727280" cy="647640"/>
          </a:xfrm>
          <a:prstGeom prst="downArrowCallout">
            <a:avLst>
              <a:gd name="adj1" fmla="val 66682"/>
              <a:gd name="adj2" fmla="val 66676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قصور الم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645000"/>
            <a:ext cx="1726920" cy="647640"/>
          </a:xfrm>
          <a:prstGeom prst="downArrowCallout">
            <a:avLst>
              <a:gd name="adj1" fmla="val 66668"/>
              <a:gd name="adj2" fmla="val 66662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غيي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3645000"/>
            <a:ext cx="1727280" cy="647640"/>
          </a:xfrm>
          <a:prstGeom prst="downArrowCallout">
            <a:avLst>
              <a:gd name="adj1" fmla="val 66682"/>
              <a:gd name="adj2" fmla="val 66676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ثنـــ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3645000"/>
            <a:ext cx="1727280" cy="647640"/>
          </a:xfrm>
          <a:prstGeom prst="downArrowCallout">
            <a:avLst>
              <a:gd name="adj1" fmla="val 66682"/>
              <a:gd name="adj2" fmla="val 66676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رتيب الأ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0" y="4332240"/>
            <a:ext cx="9139320" cy="3873240"/>
          </a:xfrm>
          <a:prstGeom prst="rect">
            <a:avLst/>
          </a:prstGeom>
          <a:gradFill rotWithShape="0">
            <a:gsLst>
              <a:gs pos="0">
                <a:srgbClr val="663012">
                  <a:alpha val="38039"/>
                </a:srgbClr>
              </a:gs>
              <a:gs pos="50000">
                <a:srgbClr val="d6b19c">
                  <a:alpha val="37254"/>
                </a:srgbClr>
              </a:gs>
              <a:gs pos="100000">
                <a:srgbClr val="663012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فتًى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ثالثة       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فتيان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ادت الألف إ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أصلها (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ي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شذًا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شذوان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عطشى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عطشي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تُـقلب الألفُ الراب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(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ياءً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97600" y="51577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ثالث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9280" y="5157720"/>
            <a:ext cx="247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عادت الألف إ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صلها ( </a:t>
            </a: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وا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87160" y="5877000"/>
            <a:ext cx="10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راب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amera.wav"/>
      </p:stSnd>
    </p:sndAc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940"/>
                            </p:stCondLst>
                            <p:childTnLst>
                              <p:par>
                                <p:cTn id="7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720" y="0"/>
            <a:ext cx="1619280" cy="6858000"/>
          </a:xfrm>
          <a:prstGeom prst="diamond">
            <a:avLst/>
          </a:prstGeom>
          <a:solidFill>
            <a:srgbClr val="66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ستنت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268280"/>
            <a:ext cx="7358040" cy="7346160"/>
          </a:xfrm>
          <a:prstGeom prst="rect">
            <a:avLst/>
          </a:prstGeom>
          <a:gradFill rotWithShape="0">
            <a:gsLst>
              <a:gs pos="0">
                <a:srgbClr val="006699">
                  <a:alpha val="38039"/>
                </a:srgbClr>
              </a:gs>
              <a:gs pos="50000">
                <a:srgbClr val="3399ff">
                  <a:alpha val="37254"/>
                </a:srgbClr>
              </a:gs>
              <a:gs pos="100000">
                <a:srgbClr val="006699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ند تثنية الاسم المقصور يحدث لألفه اللازمة ما ي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إذا كانت ثالث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هدى – عصا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ترد الألف إلى أصلها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ar-SA" sz="2800" spc="-1" strike="noStrike">
                <a:solidFill>
                  <a:srgbClr val="006600"/>
                </a:solidFill>
                <a:latin typeface="Arial"/>
              </a:rPr>
              <a:t>أصلُ الألف المكتوب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ى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1" lang="ar-SA" sz="2800" spc="-1" strike="noStrike">
                <a:solidFill>
                  <a:srgbClr val="006600"/>
                </a:solidFill>
                <a:latin typeface="Arial"/>
              </a:rPr>
              <a:t>ياءٌ مث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(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هدى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ar-SA" sz="2800" spc="-1" strike="noStrike">
                <a:solidFill>
                  <a:srgbClr val="006600"/>
                </a:solidFill>
                <a:latin typeface="Arial"/>
              </a:rPr>
              <a:t>أصلُ الألف المكتوب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 ا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1" lang="ar-SA" sz="2800" spc="-1" strike="noStrike">
                <a:solidFill>
                  <a:srgbClr val="006600"/>
                </a:solidFill>
                <a:latin typeface="Arial"/>
              </a:rPr>
              <a:t>واوٌ مث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(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عصا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على هذا ترد ألف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هدى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ياءً    عند التث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فنقو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هديـ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ترد ألف ( عصا ) واواً  عند التثن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فنقو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عصو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إذا كانت ألف المقصور رابعة فأكث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عطشى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عند التثنية تُقلبُ الألفُ ياءً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(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عطشيان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1989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9800" y="198900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amera.wav"/>
      </p:stSnd>
    </p:sndAc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2340000" cy="1052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240120 h 1052640"/>
              <a:gd name="textAreaBottom" fmla="*/ 81252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نشا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0"/>
            <a:ext cx="7093080" cy="10526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ثنِّ الأسماء المقصورة الآتية ، موضحًا التغيير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التي طرأت على الا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5280" y="1397160"/>
          <a:ext cx="8209080" cy="48402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تغيي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مثنــــ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الاسم المقصو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رق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ص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هد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طف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634920" y="2349360"/>
            <a:ext cx="17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مرق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960" y="2276640"/>
            <a:ext cx="232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قُلِبتِ الألف ياء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i-IN" sz="1800" spc="-1" strike="noStrike">
                <a:solidFill>
                  <a:srgbClr val="000099"/>
                </a:solidFill>
                <a:latin typeface="Arial"/>
              </a:rPr>
              <a:t>لأنها راب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74520" y="314172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السنو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4560" y="2997360"/>
            <a:ext cx="325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ردت الألف إلى أصل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hi-IN" sz="1800" spc="-1" strike="noStrike">
                <a:solidFill>
                  <a:srgbClr val="000099"/>
                </a:solidFill>
                <a:latin typeface="Arial"/>
              </a:rPr>
              <a:t>أصلها الوا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23760" y="393372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العصو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0" y="3789360"/>
            <a:ext cx="325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ردت الألف إلى أصل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i-IN" sz="1800" spc="-1" strike="noStrike">
                <a:solidFill>
                  <a:srgbClr val="000099"/>
                </a:solidFill>
                <a:latin typeface="Arial"/>
              </a:rPr>
              <a:t>أصلها الوا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1600" y="46926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الهد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4560" y="4653000"/>
            <a:ext cx="325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ردت الألف إلى أصل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i-IN" sz="1800" spc="-1" strike="noStrike">
                <a:solidFill>
                  <a:srgbClr val="000099"/>
                </a:solidFill>
                <a:latin typeface="Arial"/>
              </a:rPr>
              <a:t>أصلها الي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53840" y="551664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مصطف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6320" y="5445000"/>
            <a:ext cx="23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قُلِبتِ الألف ياء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i-IN" sz="1800" spc="-1" strike="noStrike">
                <a:solidFill>
                  <a:srgbClr val="000099"/>
                </a:solidFill>
                <a:latin typeface="Arial"/>
              </a:rPr>
              <a:t>لأنها خام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amera.wav"/>
      </p:stSnd>
    </p:sndAc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9:37:55Z</dcterms:created>
  <dc:creator>USER</dc:creator>
  <dc:description/>
  <dc:language>en-US</dc:language>
  <cp:lastModifiedBy>USER</cp:lastModifiedBy>
  <dcterms:modified xsi:type="dcterms:W3CDTF">2008-04-03T19:37:55Z</dcterms:modified>
  <cp:revision>1</cp:revision>
  <dc:subject/>
  <dc:title>الشريحة 1</dc:title>
</cp:coreProperties>
</file>